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827-9FC0-448D-9DD8-87C240C6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023-4BA2-4E05-BEEA-64BD31A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9FE-61F5-4324-B2AC-FEF4494E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A84-F7FF-44A0-8A7B-CE35C051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EDF2-29A5-424B-BE44-4F32BB00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091A-E957-4731-BBE7-FF71C8F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DDF-3F96-4F1A-98C9-033BCA75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2D7C-15A7-454A-87E5-2EBB9619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A34B-9BAF-46DF-9F41-0473F20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DFD6-8724-4B75-B9F2-94A2480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4774-D100-4E16-9815-13E28D7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1E3-0E10-490C-919A-C85A76A1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3C28-893B-4038-A49B-BF9DDF1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D30D-1861-489A-8070-B567DBF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558-CC3E-4678-B799-DB22EE4F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89C-6B1E-46F1-8E6F-0FAFDA01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5D78-49B0-4328-9910-23055A0A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B06-CFBF-4A37-8E66-F54FBD6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378-CC4C-4227-AF4D-84BA3BF2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3CB-FF9E-45A3-956B-B7E4745C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7E8-A92B-4388-8E2F-7B9AA3D8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9ED-0FC1-4DA5-A564-32F7F96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EF2-8EEB-41EA-BEDD-CB0644B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248-17D2-4547-BB88-7F19F77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0C97-708E-4978-9BAA-B6E94BB819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545-2FE2-4D17-B199-5851C8C82A4A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DDAE0DC998822ECE1E9649B678DC5B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64AC5921875E1060A316FF380C98050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54569A515D7C90DEBE2B6A4330EB77A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2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«Мы – пешеходы»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Изображение 154"/>
          <p:cNvPicPr/>
          <p:nvPr/>
        </p:nvPicPr>
        <p:blipFill>
          <a:blip r:embed="rId1"/>
          <a:stretch/>
        </p:blipFill>
        <p:spPr>
          <a:xfrm>
            <a:off x="2214720" y="1285920"/>
            <a:ext cx="4857480" cy="5443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000080" y="3571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ЕРЕХОДИТ ПЕРЕКРЕСТОК НЕПРАВИЛЬНО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Изображение 155"/>
          <p:cNvPicPr/>
          <p:nvPr/>
        </p:nvPicPr>
        <p:blipFill>
          <a:blip r:embed="rId1"/>
          <a:stretch/>
        </p:blipFill>
        <p:spPr>
          <a:xfrm>
            <a:off x="142920" y="1643040"/>
            <a:ext cx="8777160" cy="5114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500120" y="35712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ЕРЕХОДИТ ДОРОГУ НЕПРАВИЛЬНО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ИК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000240" cy="272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214960" y="421488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1214280" y="43578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6143760" y="1714680"/>
            <a:ext cx="2822400" cy="18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3500280" y="1214280"/>
            <a:ext cx="2428920" cy="269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 flipV="1" rot="10773000">
            <a:off x="3357000" y="1796760"/>
            <a:ext cx="53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Cambria"/>
              </a:rPr>
              <a:t>П. 4.1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переходе дороги и движении по обочинам или краю проезжей част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емное время суток</a:t>
            </a: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или в условиях недостаточной видимост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ам рекомендуется, а вне населенных пунктов пешеходы обязаны</a:t>
            </a: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иметь при себе предметы со световозвращающими элементами и обеспечивать видимость этих предметов водителями транспортных сред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571760" y="642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ИЮЛЯ 2015 ГОД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Picture 2" descr="http://webserver.modus2.ru/images/396166.jpg"/>
          <p:cNvPicPr/>
          <p:nvPr/>
        </p:nvPicPr>
        <p:blipFill>
          <a:blip r:embed="rId1"/>
          <a:stretch/>
        </p:blipFill>
        <p:spPr>
          <a:xfrm>
            <a:off x="214200" y="1857240"/>
            <a:ext cx="2857680" cy="415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ходящееся вне транспортного средства на дороге и не производящее на ней работу. К пешеходам приравниваются лица, передвигающиеся в 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1_2_69 (1).gif"/>
          <p:cNvPicPr/>
          <p:nvPr/>
        </p:nvPicPr>
        <p:blipFill>
          <a:blip r:embed="rId1"/>
          <a:stretch/>
        </p:blipFill>
        <p:spPr>
          <a:xfrm>
            <a:off x="285840" y="3357720"/>
            <a:ext cx="1514520" cy="213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Рабочий стол\1_2_69.gif"/>
          <p:cNvPicPr/>
          <p:nvPr/>
        </p:nvPicPr>
        <p:blipFill>
          <a:blip r:embed="rId2"/>
          <a:stretch/>
        </p:blipFill>
        <p:spPr>
          <a:xfrm>
            <a:off x="1571760" y="4643280"/>
            <a:ext cx="1342800" cy="186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1_2_69 (1).gif"/>
          <p:cNvPicPr/>
          <p:nvPr/>
        </p:nvPicPr>
        <p:blipFill>
          <a:blip r:embed="rId3"/>
          <a:stretch/>
        </p:blipFill>
        <p:spPr>
          <a:xfrm>
            <a:off x="3071880" y="3571920"/>
            <a:ext cx="1514520" cy="20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Рабочий стол\1_2_69 (1).gif"/>
          <p:cNvPicPr/>
          <p:nvPr/>
        </p:nvPicPr>
        <p:blipFill>
          <a:blip r:embed="rId4"/>
          <a:stretch/>
        </p:blipFill>
        <p:spPr>
          <a:xfrm>
            <a:off x="4500720" y="46432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ocuments and Settings\Admin\Рабочий стол\1_2_69 (1).gif"/>
          <p:cNvPicPr/>
          <p:nvPr/>
        </p:nvPicPr>
        <p:blipFill>
          <a:blip r:embed="rId5"/>
          <a:stretch/>
        </p:blipFill>
        <p:spPr>
          <a:xfrm>
            <a:off x="6000840" y="3357720"/>
            <a:ext cx="154296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Рабочий стол\1_2_69 (1).gif"/>
          <p:cNvPicPr/>
          <p:nvPr/>
        </p:nvPicPr>
        <p:blipFill>
          <a:blip r:embed="rId6"/>
          <a:stretch/>
        </p:blipFill>
        <p:spPr>
          <a:xfrm>
            <a:off x="7643880" y="4071960"/>
            <a:ext cx="11523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1000080" y="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шеходы должны двигаться по тротуарам или пешеходным дорожкам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500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сутствии тротуаров, пешеходных дорожек пешеходы могут двигаться по левой или идти друг за другом по краю проезжей части. 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WINDOWS\Temp\$BSLMBD$\DDAE0DC998822ECE1E9649B678DC5BB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206800"/>
            <a:ext cx="635796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928800" y="0"/>
            <a:ext cx="72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шеходы должны пересекать проезжую часть по пешеходным переходам, в том числе по подземным и надземны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" descr="C:\Documents and Settings\Admin\Рабочий стол\421_large.jpg"/>
          <p:cNvPicPr/>
          <p:nvPr/>
        </p:nvPicPr>
        <p:blipFill>
          <a:blip r:embed="rId1"/>
          <a:stretch/>
        </p:blipFill>
        <p:spPr>
          <a:xfrm>
            <a:off x="428760" y="2214720"/>
            <a:ext cx="1714320" cy="2039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Admin\Рабочий стол\421_large.jpg"/>
          <p:cNvPicPr/>
          <p:nvPr/>
        </p:nvPicPr>
        <p:blipFill>
          <a:blip r:embed="rId2"/>
          <a:stretch/>
        </p:blipFill>
        <p:spPr>
          <a:xfrm>
            <a:off x="2500200" y="43578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Admin\Рабочий стол\421_large.jpg"/>
          <p:cNvPicPr/>
          <p:nvPr/>
        </p:nvPicPr>
        <p:blipFill>
          <a:blip r:embed="rId3"/>
          <a:stretch/>
        </p:blipFill>
        <p:spPr>
          <a:xfrm>
            <a:off x="4357800" y="2143080"/>
            <a:ext cx="1714320" cy="200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Admin\Рабочий стол\421_large.jpg"/>
          <p:cNvPicPr/>
          <p:nvPr/>
        </p:nvPicPr>
        <p:blipFill>
          <a:blip r:embed="rId4"/>
          <a:stretch/>
        </p:blipFill>
        <p:spPr>
          <a:xfrm>
            <a:off x="6858000" y="4286160"/>
            <a:ext cx="17146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9"/>
          <p:cNvSpPr/>
          <p:nvPr/>
        </p:nvSpPr>
        <p:spPr>
          <a:xfrm>
            <a:off x="214200" y="43578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отсутствии пешеходного перехода пешеходу разрешается переходить дорогу под прямым углом к краю проезжей части на участке без разделительной полосы и ограждений. При этом дорога должна хорошо просматриваться в обе сторо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Picture 2" descr="C:\WINDOWS\Temp\$BSLMBD$\64AC5921875E1060A316FF380C9805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14200"/>
            <a:ext cx="8271000" cy="418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8575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4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регулируемых пешеходных переходах пешеходы могут выходить на проезжую часть дороги только после того, как они оценят расстояние до приближающихся транспортных средств и убедятся, что переход будет безопасен.</a:t>
            </a:r>
            <a:br>
              <a:rPr sz="24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WINDOWS\Temp\$BSLMBD$\54569A515D7C90DEBE2B6A4330EB77A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14200"/>
            <a:ext cx="7072200" cy="3775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7572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5</a:t>
            </a:r>
            <a:br>
              <a:rPr sz="2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бегайте улицу, надо переходить ее шагом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bezopasnost-detej.ru/images/2013-2/208-9-pravila-dorozhnogo-dvizheniya-detyam-kartinki.jpg"/>
          <p:cNvPicPr/>
          <p:nvPr/>
        </p:nvPicPr>
        <p:blipFill>
          <a:blip r:embed="rId1"/>
          <a:stretch/>
        </p:blipFill>
        <p:spPr>
          <a:xfrm>
            <a:off x="142920" y="1857240"/>
            <a:ext cx="43783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42.fastpic.ru/big/2012/0904/65/558d7d4a5512e3b19997fd2e2ec51b6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7"/>
          <p:cNvSpPr/>
          <p:nvPr/>
        </p:nvSpPr>
        <p:spPr>
          <a:xfrm>
            <a:off x="142920" y="1857240"/>
            <a:ext cx="4357800" cy="314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 flipV="1">
            <a:off x="0" y="1928520"/>
            <a:ext cx="4500720" cy="314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http://uch.znate.ru/tw_files2/urls_9/6/d-5818/5818_html_55c87946.jpg"/>
          <p:cNvPicPr/>
          <p:nvPr/>
        </p:nvPicPr>
        <p:blipFill>
          <a:blip r:embed="rId1"/>
          <a:stretch/>
        </p:blipFill>
        <p:spPr>
          <a:xfrm>
            <a:off x="4286160" y="357192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uch.znate.ru/tw_files2/urls_9/6/d-5818/5818_html_207ad67d.jpg"/>
          <p:cNvPicPr/>
          <p:nvPr/>
        </p:nvPicPr>
        <p:blipFill>
          <a:blip r:embed="rId2"/>
          <a:stretch/>
        </p:blipFill>
        <p:spPr>
          <a:xfrm>
            <a:off x="285840" y="2214720"/>
            <a:ext cx="4643280" cy="3071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143000" y="142920"/>
            <a:ext cx="714384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Не выбегайте на дорогу вне зоны пешеходного перехода, в этом месте водитель не ожидает пешеходов и не сможет мгновенно остановить автомобиль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User</cp:lastModifiedBy>
  <dcterms:modified xsi:type="dcterms:W3CDTF">2015-04-08T12:37:53Z</dcterms:modified>
  <cp:revision>42</cp:revision>
  <dc:subject/>
  <dc:title>ОСНОВНЫЕ ПОНЯТИЯ И ТЕРМИНЫ, используемые в правилах дорожного движения</dc:title>
</cp:coreProperties>
</file>